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E04-25A4-4884-8F17-753F1C2C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8C1-1197-4FA7-BB80-803B3FF9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5F9-6AB5-45DA-AFE7-6C3CB412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5AC-B567-4091-BE81-C3392CA3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7C26-4E9B-4323-AE7A-F398D9F6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6417-121C-4D8E-9883-F7522DF5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BCF6-B817-4F1F-BD7E-56ECC2EA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258B-3949-433F-8E14-48C45156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B394-3C34-4137-8A3A-8C944329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43F9-3F6F-4E7F-B341-214F67BB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7F19-D638-45D9-8952-371A6503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C99-9508-4846-BCF4-D03AF6E4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86B8-5BAB-45B6-B578-E5007E2B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85FB-11E4-4184-B313-3EA560B8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629B-59A2-41B9-8E54-B13F4EC4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0DD0-9D69-4F04-B725-9AD57A0C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0443-DD76-4747-BEEC-224709F4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819-974D-4494-8E4E-F1CF23CB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03C-0E1C-44C9-8F9B-7154AA85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AF3-8236-44BC-8561-1609A793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C3F-614F-4B39-B79A-F703AF28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777-70BB-4B60-B90F-8223DE75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9AF-A08E-43D1-A9B1-38A9F2C6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474-445D-4E22-9F81-AE5B93F7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762E-F546-4733-81AA-A80FCE020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6EE4-FA58-4464-BC8A-C4446B3BF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6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roclamation of 1763 did which of the following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A – introduced a tax on tea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B – Prohibited colonists from producing iron for the American marke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C – Forbade all colonial trade with the French West Indies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D – Set a boundary along the crest of the Appalachians beyond which the English colonists were forbidden to settl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E – Announce the reorganization of the colonial office under Parliament, rather than directly under the King-in-Council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4" name="AutoShape 9">
            <a:hlinkClick r:id="rId6" action="ppaction://hlinksldjump"/>
          </p:cNvPr>
          <p:cNvSpPr/>
          <p:nvPr/>
        </p:nvSpPr>
        <p:spPr>
          <a:xfrm>
            <a:off x="1752480" y="3733920"/>
            <a:ext cx="4496040" cy="685800"/>
          </a:xfrm>
          <a:custGeom>
            <a:avLst/>
            <a:gdLst>
              <a:gd name="textAreaLeft" fmla="*/ 44280 w 4496040"/>
              <a:gd name="textAreaRight" fmla="*/ 4451760 w 4496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41545" h="21600">
                <a:moveTo>
                  <a:pt x="0" y="0"/>
                </a:moveTo>
                <a:lnTo>
                  <a:pt x="141545" y="0"/>
                </a:lnTo>
                <a:lnTo>
                  <a:pt x="141545" y="21600"/>
                </a:lnTo>
                <a:lnTo>
                  <a:pt x="0" y="21600"/>
                </a:lnTo>
                <a:close/>
              </a:path>
              <a:path fill="lightenLess" w="141545" h="21600">
                <a:moveTo>
                  <a:pt x="0" y="0"/>
                </a:moveTo>
                <a:lnTo>
                  <a:pt x="141545" y="0"/>
                </a:lnTo>
                <a:lnTo>
                  <a:pt x="140145" y="1400"/>
                </a:lnTo>
                <a:lnTo>
                  <a:pt x="1400" y="1400"/>
                </a:lnTo>
                <a:close/>
              </a:path>
              <a:path fill="darken" w="141545" h="21600">
                <a:moveTo>
                  <a:pt x="141545" y="0"/>
                </a:moveTo>
                <a:lnTo>
                  <a:pt x="141545" y="21600"/>
                </a:lnTo>
                <a:lnTo>
                  <a:pt x="140145" y="20200"/>
                </a:lnTo>
                <a:lnTo>
                  <a:pt x="140145" y="1400"/>
                </a:lnTo>
                <a:close/>
              </a:path>
              <a:path fill="darkenLess" w="141545" h="21600">
                <a:moveTo>
                  <a:pt x="141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145" y="20200"/>
                </a:lnTo>
                <a:close/>
              </a:path>
              <a:path fill="lighten" w="141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2">
            <a:hlinkClick r:id="rId7" action="ppaction://hlinksldjump"/>
          </p:cNvPr>
          <p:cNvSpPr/>
          <p:nvPr/>
        </p:nvSpPr>
        <p:spPr>
          <a:xfrm>
            <a:off x="1981080" y="4572000"/>
            <a:ext cx="5029200" cy="685800"/>
          </a:xfrm>
          <a:custGeom>
            <a:avLst/>
            <a:gdLst>
              <a:gd name="textAreaLeft" fmla="*/ 44280 w 5029200"/>
              <a:gd name="textAreaRight" fmla="*/ 4984920 w 5029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58328" h="21600">
                <a:moveTo>
                  <a:pt x="0" y="0"/>
                </a:moveTo>
                <a:lnTo>
                  <a:pt x="158328" y="0"/>
                </a:lnTo>
                <a:lnTo>
                  <a:pt x="158328" y="21600"/>
                </a:lnTo>
                <a:lnTo>
                  <a:pt x="0" y="21600"/>
                </a:lnTo>
                <a:close/>
              </a:path>
              <a:path fill="lightenLess" w="158328" h="21600">
                <a:moveTo>
                  <a:pt x="0" y="0"/>
                </a:moveTo>
                <a:lnTo>
                  <a:pt x="158328" y="0"/>
                </a:lnTo>
                <a:lnTo>
                  <a:pt x="156928" y="1400"/>
                </a:lnTo>
                <a:lnTo>
                  <a:pt x="1400" y="1400"/>
                </a:lnTo>
                <a:close/>
              </a:path>
              <a:path fill="darken" w="158328" h="21600">
                <a:moveTo>
                  <a:pt x="158328" y="0"/>
                </a:moveTo>
                <a:lnTo>
                  <a:pt x="158328" y="21600"/>
                </a:lnTo>
                <a:lnTo>
                  <a:pt x="156928" y="20200"/>
                </a:lnTo>
                <a:lnTo>
                  <a:pt x="156928" y="1400"/>
                </a:lnTo>
                <a:close/>
              </a:path>
              <a:path fill="darkenLess" w="158328" h="21600">
                <a:moveTo>
                  <a:pt x="158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928" y="20200"/>
                </a:lnTo>
                <a:close/>
              </a:path>
              <a:path fill="lighten" w="158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3">
            <a:hlinkClick r:id="rId8" action="ppaction://hlinksldjump"/>
          </p:cNvPr>
          <p:cNvSpPr/>
          <p:nvPr/>
        </p:nvSpPr>
        <p:spPr>
          <a:xfrm>
            <a:off x="1981080" y="5410080"/>
            <a:ext cx="5715000" cy="685800"/>
          </a:xfrm>
          <a:custGeom>
            <a:avLst/>
            <a:gdLst>
              <a:gd name="textAreaLeft" fmla="*/ 44280 w 5715000"/>
              <a:gd name="textAreaRight" fmla="*/ 5670720 w 5715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9917" h="21600">
                <a:moveTo>
                  <a:pt x="0" y="0"/>
                </a:moveTo>
                <a:lnTo>
                  <a:pt x="179917" y="0"/>
                </a:lnTo>
                <a:lnTo>
                  <a:pt x="179917" y="21600"/>
                </a:lnTo>
                <a:lnTo>
                  <a:pt x="0" y="21600"/>
                </a:lnTo>
                <a:close/>
              </a:path>
              <a:path fill="lightenLess" w="179917" h="21600">
                <a:moveTo>
                  <a:pt x="0" y="0"/>
                </a:moveTo>
                <a:lnTo>
                  <a:pt x="179917" y="0"/>
                </a:lnTo>
                <a:lnTo>
                  <a:pt x="178517" y="1400"/>
                </a:lnTo>
                <a:lnTo>
                  <a:pt x="1400" y="1400"/>
                </a:lnTo>
                <a:close/>
              </a:path>
              <a:path fill="darken" w="179917" h="21600">
                <a:moveTo>
                  <a:pt x="179917" y="0"/>
                </a:moveTo>
                <a:lnTo>
                  <a:pt x="179917" y="21600"/>
                </a:lnTo>
                <a:lnTo>
                  <a:pt x="178517" y="20200"/>
                </a:lnTo>
                <a:lnTo>
                  <a:pt x="178517" y="1400"/>
                </a:lnTo>
                <a:close/>
              </a:path>
              <a:path fill="darkenLess" w="179917" h="21600">
                <a:moveTo>
                  <a:pt x="179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517" y="20200"/>
                </a:lnTo>
                <a:close/>
              </a:path>
              <a:path fill="lighten" w="179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ction Button: Custom 6">
            <a:hlinkClick r:id="rId9" action="ppaction://hlinksldjump"/>
          </p:cNvPr>
          <p:cNvSpPr/>
          <p:nvPr/>
        </p:nvSpPr>
        <p:spPr>
          <a:xfrm>
            <a:off x="152280" y="3733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ction Button: Custom 9">
            <a:hlinkClick r:id="rId10" action="ppaction://hlinksldjump"/>
          </p:cNvPr>
          <p:cNvSpPr/>
          <p:nvPr/>
        </p:nvSpPr>
        <p:spPr>
          <a:xfrm>
            <a:off x="76320" y="1676520"/>
            <a:ext cx="457200" cy="21333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2133360"/>
              <a:gd name="textAreaBottom" fmla="*/ 2103840 h 2133360"/>
            </a:gdLst>
            <a:ahLst/>
            <a:rect l="textAreaLeft" t="textAreaTop" r="textAreaRight" b="textAreaBottom"/>
            <a:pathLst>
              <a:path w="21600" h="100726">
                <a:moveTo>
                  <a:pt x="0" y="0"/>
                </a:moveTo>
                <a:lnTo>
                  <a:pt x="21600" y="0"/>
                </a:lnTo>
                <a:lnTo>
                  <a:pt x="21600" y="100726"/>
                </a:lnTo>
                <a:lnTo>
                  <a:pt x="0" y="100726"/>
                </a:lnTo>
                <a:close/>
              </a:path>
              <a:path fill="lightenLess" w="21600" h="1007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00726">
                <a:moveTo>
                  <a:pt x="21600" y="0"/>
                </a:moveTo>
                <a:lnTo>
                  <a:pt x="21600" y="100726"/>
                </a:lnTo>
                <a:lnTo>
                  <a:pt x="20200" y="99326"/>
                </a:lnTo>
                <a:lnTo>
                  <a:pt x="20200" y="1400"/>
                </a:lnTo>
                <a:close/>
              </a:path>
              <a:path fill="darkenLess" w="21600" h="100726">
                <a:moveTo>
                  <a:pt x="21600" y="100726"/>
                </a:moveTo>
                <a:lnTo>
                  <a:pt x="0" y="100726"/>
                </a:lnTo>
                <a:lnTo>
                  <a:pt x="1400" y="99326"/>
                </a:lnTo>
                <a:lnTo>
                  <a:pt x="20200" y="99326"/>
                </a:lnTo>
                <a:close/>
              </a:path>
              <a:path fill="lighten" w="21600" h="100726">
                <a:moveTo>
                  <a:pt x="0" y="100726"/>
                </a:moveTo>
                <a:lnTo>
                  <a:pt x="0" y="0"/>
                </a:lnTo>
                <a:lnTo>
                  <a:pt x="1400" y="1400"/>
                </a:lnTo>
                <a:lnTo>
                  <a:pt x="1400" y="993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rimary purpose of the Stamp Act was to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99ccff"/>
                </a:solidFill>
                <a:latin typeface="Arial"/>
              </a:rPr>
              <a:t>A) raise revenues to support British troops stationed in America</a:t>
            </a:r>
            <a:endParaRPr b="0" lang="en-US" sz="33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ff"/>
                </a:solidFill>
                <a:latin typeface="Arial"/>
              </a:rPr>
              <a:t>B) reduce colonial consumption of foreign goods</a:t>
            </a:r>
            <a:endParaRPr b="0" lang="en-US" sz="33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ff"/>
                </a:solidFill>
                <a:latin typeface="Arial"/>
              </a:rPr>
              <a:t>C) fund the colonial postal system</a:t>
            </a:r>
            <a:endParaRPr b="0" lang="en-US" sz="33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ff"/>
                </a:solidFill>
                <a:latin typeface="Arial"/>
              </a:rPr>
              <a:t>D) impose a mercantilist system on the colonies</a:t>
            </a:r>
            <a:endParaRPr b="0" lang="en-US" sz="33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ff"/>
                </a:solidFill>
                <a:latin typeface="Arial"/>
              </a:rPr>
              <a:t>E) reduce the authority of the colonial legislatures </a:t>
            </a:r>
            <a:endParaRPr b="0" lang="en-US" sz="33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5" name="Action Button: Custom 3"/>
          <p:cNvSpPr/>
          <p:nvPr/>
        </p:nvSpPr>
        <p:spPr>
          <a:xfrm>
            <a:off x="380880" y="17524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ction Button: Custom 4"/>
          <p:cNvSpPr/>
          <p:nvPr/>
        </p:nvSpPr>
        <p:spPr>
          <a:xfrm>
            <a:off x="533520" y="2819520"/>
            <a:ext cx="685800" cy="3581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3581280"/>
              <a:gd name="textAreaBottom" fmla="*/ 3537000 h 3581280"/>
            </a:gdLst>
            <a:ahLst/>
            <a:rect l="textAreaLeft" t="textAreaTop" r="textAreaRight" b="textAreaBottom"/>
            <a:pathLst>
              <a:path w="21600" h="112748">
                <a:moveTo>
                  <a:pt x="0" y="0"/>
                </a:moveTo>
                <a:lnTo>
                  <a:pt x="21600" y="0"/>
                </a:lnTo>
                <a:lnTo>
                  <a:pt x="21600" y="112748"/>
                </a:lnTo>
                <a:lnTo>
                  <a:pt x="0" y="112748"/>
                </a:lnTo>
                <a:close/>
              </a:path>
              <a:path fill="lightenLess" w="21600" h="1127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12748">
                <a:moveTo>
                  <a:pt x="21600" y="0"/>
                </a:moveTo>
                <a:lnTo>
                  <a:pt x="21600" y="112748"/>
                </a:lnTo>
                <a:lnTo>
                  <a:pt x="20200" y="111348"/>
                </a:lnTo>
                <a:lnTo>
                  <a:pt x="20200" y="1400"/>
                </a:lnTo>
                <a:close/>
              </a:path>
              <a:path fill="darkenLess" w="21600" h="112748">
                <a:moveTo>
                  <a:pt x="21600" y="112748"/>
                </a:moveTo>
                <a:lnTo>
                  <a:pt x="0" y="112748"/>
                </a:lnTo>
                <a:lnTo>
                  <a:pt x="1400" y="111348"/>
                </a:lnTo>
                <a:lnTo>
                  <a:pt x="20200" y="111348"/>
                </a:lnTo>
                <a:close/>
              </a:path>
              <a:path fill="lighten" w="21600" h="112748">
                <a:moveTo>
                  <a:pt x="0" y="112748"/>
                </a:moveTo>
                <a:lnTo>
                  <a:pt x="0" y="0"/>
                </a:lnTo>
                <a:lnTo>
                  <a:pt x="1400" y="1400"/>
                </a:lnTo>
                <a:lnTo>
                  <a:pt x="1400" y="1113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1" name="AutoShape 6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4" name="AutoShape 6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of the following was true of a married woman in the colonial er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A – She would be sentenced to debtors’ prison for debts incurred by her husband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B – She could vote as her husband’s proxy in election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C – She generally lost control of her property when she married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 – She was the prime beneficiary by law of her husband’s estat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E – Her legal rights over her children were the same as those of her husband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7" name="AutoShape 4">
            <a:hlinkClick r:id="rId6" action="ppaction://hlinksldjump"/>
          </p:cNvPr>
          <p:cNvSpPr/>
          <p:nvPr/>
        </p:nvSpPr>
        <p:spPr>
          <a:xfrm>
            <a:off x="380880" y="4800600"/>
            <a:ext cx="4191120" cy="76212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39" h="21600">
                <a:moveTo>
                  <a:pt x="0" y="0"/>
                </a:moveTo>
                <a:lnTo>
                  <a:pt x="118739" y="0"/>
                </a:lnTo>
                <a:lnTo>
                  <a:pt x="118739" y="21600"/>
                </a:lnTo>
                <a:lnTo>
                  <a:pt x="0" y="21600"/>
                </a:lnTo>
                <a:close/>
              </a:path>
              <a:path fill="lightenLess" w="118739" h="21600">
                <a:moveTo>
                  <a:pt x="0" y="0"/>
                </a:moveTo>
                <a:lnTo>
                  <a:pt x="118739" y="0"/>
                </a:lnTo>
                <a:lnTo>
                  <a:pt x="117339" y="1400"/>
                </a:lnTo>
                <a:lnTo>
                  <a:pt x="1400" y="1400"/>
                </a:lnTo>
                <a:close/>
              </a:path>
              <a:path fill="darken" w="118739" h="21600">
                <a:moveTo>
                  <a:pt x="118739" y="0"/>
                </a:moveTo>
                <a:lnTo>
                  <a:pt x="118739" y="21600"/>
                </a:lnTo>
                <a:lnTo>
                  <a:pt x="117339" y="20200"/>
                </a:lnTo>
                <a:lnTo>
                  <a:pt x="117339" y="1400"/>
                </a:lnTo>
                <a:close/>
              </a:path>
              <a:path fill="darkenLess" w="118739" h="21600">
                <a:moveTo>
                  <a:pt x="118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9" y="20200"/>
                </a:lnTo>
                <a:close/>
              </a:path>
              <a:path fill="lighten" w="118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>
            <a:hlinkClick r:id="rId7" action="ppaction://hlinksldjump"/>
          </p:cNvPr>
          <p:cNvSpPr/>
          <p:nvPr/>
        </p:nvSpPr>
        <p:spPr>
          <a:xfrm>
            <a:off x="380880" y="3124080"/>
            <a:ext cx="4114800" cy="76212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6577" h="21600">
                <a:moveTo>
                  <a:pt x="0" y="0"/>
                </a:moveTo>
                <a:lnTo>
                  <a:pt x="116577" y="0"/>
                </a:lnTo>
                <a:lnTo>
                  <a:pt x="116577" y="21600"/>
                </a:lnTo>
                <a:lnTo>
                  <a:pt x="0" y="21600"/>
                </a:lnTo>
                <a:close/>
              </a:path>
              <a:path fill="lightenLess" w="116577" h="21600">
                <a:moveTo>
                  <a:pt x="0" y="0"/>
                </a:moveTo>
                <a:lnTo>
                  <a:pt x="116577" y="0"/>
                </a:lnTo>
                <a:lnTo>
                  <a:pt x="115177" y="1400"/>
                </a:lnTo>
                <a:lnTo>
                  <a:pt x="1400" y="1400"/>
                </a:lnTo>
                <a:close/>
              </a:path>
              <a:path fill="darken" w="116577" h="21600">
                <a:moveTo>
                  <a:pt x="116577" y="0"/>
                </a:moveTo>
                <a:lnTo>
                  <a:pt x="116577" y="21600"/>
                </a:lnTo>
                <a:lnTo>
                  <a:pt x="115177" y="20200"/>
                </a:lnTo>
                <a:lnTo>
                  <a:pt x="115177" y="1400"/>
                </a:lnTo>
                <a:close/>
              </a:path>
              <a:path fill="darkenLess" w="116577" h="21600">
                <a:moveTo>
                  <a:pt x="11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77" y="20200"/>
                </a:lnTo>
                <a:close/>
              </a:path>
              <a:path fill="lighten" w="11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7">
            <a:hlinkClick r:id="rId8" action="ppaction://hlinksldjump"/>
          </p:cNvPr>
          <p:cNvSpPr/>
          <p:nvPr/>
        </p:nvSpPr>
        <p:spPr>
          <a:xfrm>
            <a:off x="609480" y="4267080"/>
            <a:ext cx="3962520" cy="762120"/>
          </a:xfrm>
          <a:custGeom>
            <a:avLst/>
            <a:gdLst>
              <a:gd name="textAreaLeft" fmla="*/ 49320 w 3962520"/>
              <a:gd name="textAreaRight" fmla="*/ 3913200 w 3962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8">
            <a:hlinkClick r:id="rId9" action="ppaction://hlinksldjump"/>
          </p:cNvPr>
          <p:cNvSpPr/>
          <p:nvPr/>
        </p:nvSpPr>
        <p:spPr>
          <a:xfrm>
            <a:off x="533520" y="2438280"/>
            <a:ext cx="4190760" cy="762120"/>
          </a:xfrm>
          <a:custGeom>
            <a:avLst/>
            <a:gdLst>
              <a:gd name="textAreaLeft" fmla="*/ 49320 w 4190760"/>
              <a:gd name="textAreaRight" fmla="*/ 4141440 w 4190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29" h="21600">
                <a:moveTo>
                  <a:pt x="0" y="0"/>
                </a:moveTo>
                <a:lnTo>
                  <a:pt x="118729" y="0"/>
                </a:lnTo>
                <a:lnTo>
                  <a:pt x="118729" y="21600"/>
                </a:lnTo>
                <a:lnTo>
                  <a:pt x="0" y="21600"/>
                </a:lnTo>
                <a:close/>
              </a:path>
              <a:path fill="lightenLess" w="118729" h="21600">
                <a:moveTo>
                  <a:pt x="0" y="0"/>
                </a:moveTo>
                <a:lnTo>
                  <a:pt x="118729" y="0"/>
                </a:lnTo>
                <a:lnTo>
                  <a:pt x="117329" y="1400"/>
                </a:lnTo>
                <a:lnTo>
                  <a:pt x="1400" y="1400"/>
                </a:lnTo>
                <a:close/>
              </a:path>
              <a:path fill="darken" w="118729" h="21600">
                <a:moveTo>
                  <a:pt x="118729" y="0"/>
                </a:moveTo>
                <a:lnTo>
                  <a:pt x="118729" y="21600"/>
                </a:lnTo>
                <a:lnTo>
                  <a:pt x="117329" y="20200"/>
                </a:lnTo>
                <a:lnTo>
                  <a:pt x="117329" y="1400"/>
                </a:lnTo>
                <a:close/>
              </a:path>
              <a:path fill="darkenLess" w="118729" h="21600">
                <a:moveTo>
                  <a:pt x="118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29" y="20200"/>
                </a:lnTo>
                <a:close/>
              </a:path>
              <a:path fill="lighten" w="118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9">
            <a:hlinkClick r:id="rId10" action="ppaction://hlinksldjump"/>
          </p:cNvPr>
          <p:cNvSpPr/>
          <p:nvPr/>
        </p:nvSpPr>
        <p:spPr>
          <a:xfrm>
            <a:off x="457200" y="3962520"/>
            <a:ext cx="4191120" cy="76176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8795" h="21600">
                <a:moveTo>
                  <a:pt x="0" y="0"/>
                </a:moveTo>
                <a:lnTo>
                  <a:pt x="118795" y="0"/>
                </a:lnTo>
                <a:lnTo>
                  <a:pt x="118795" y="21600"/>
                </a:lnTo>
                <a:lnTo>
                  <a:pt x="0" y="21600"/>
                </a:lnTo>
                <a:close/>
              </a:path>
              <a:path fill="lightenLess" w="118795" h="21600">
                <a:moveTo>
                  <a:pt x="0" y="0"/>
                </a:moveTo>
                <a:lnTo>
                  <a:pt x="118795" y="0"/>
                </a:lnTo>
                <a:lnTo>
                  <a:pt x="117395" y="1400"/>
                </a:lnTo>
                <a:lnTo>
                  <a:pt x="1400" y="1400"/>
                </a:lnTo>
                <a:close/>
              </a:path>
              <a:path fill="darken" w="118795" h="21600">
                <a:moveTo>
                  <a:pt x="118795" y="0"/>
                </a:moveTo>
                <a:lnTo>
                  <a:pt x="118795" y="21600"/>
                </a:lnTo>
                <a:lnTo>
                  <a:pt x="117395" y="20200"/>
                </a:lnTo>
                <a:lnTo>
                  <a:pt x="117395" y="1400"/>
                </a:lnTo>
                <a:close/>
              </a:path>
              <a:path fill="darkenLess" w="118795" h="21600">
                <a:moveTo>
                  <a:pt x="11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95" y="20200"/>
                </a:lnTo>
                <a:close/>
              </a:path>
              <a:path fill="lighten" w="11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">
            <a:hlinkClick r:id="rId11" action="ppaction://hlinksldjump"/>
          </p:cNvPr>
          <p:cNvSpPr/>
          <p:nvPr/>
        </p:nvSpPr>
        <p:spPr>
          <a:xfrm>
            <a:off x="380880" y="2362320"/>
            <a:ext cx="4267440" cy="761760"/>
          </a:xfrm>
          <a:custGeom>
            <a:avLst/>
            <a:gdLst>
              <a:gd name="textAreaLeft" fmla="*/ 49320 w 4267440"/>
              <a:gd name="textAreaRight" fmla="*/ 4218120 w 4267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20958" h="21600">
                <a:moveTo>
                  <a:pt x="0" y="0"/>
                </a:moveTo>
                <a:lnTo>
                  <a:pt x="120958" y="0"/>
                </a:lnTo>
                <a:lnTo>
                  <a:pt x="120958" y="21600"/>
                </a:lnTo>
                <a:lnTo>
                  <a:pt x="0" y="21600"/>
                </a:lnTo>
                <a:close/>
              </a:path>
              <a:path fill="lightenLess" w="120958" h="21600">
                <a:moveTo>
                  <a:pt x="0" y="0"/>
                </a:moveTo>
                <a:lnTo>
                  <a:pt x="120958" y="0"/>
                </a:lnTo>
                <a:lnTo>
                  <a:pt x="119558" y="1400"/>
                </a:lnTo>
                <a:lnTo>
                  <a:pt x="1400" y="1400"/>
                </a:lnTo>
                <a:close/>
              </a:path>
              <a:path fill="darken" w="120958" h="21600">
                <a:moveTo>
                  <a:pt x="120958" y="0"/>
                </a:moveTo>
                <a:lnTo>
                  <a:pt x="120958" y="21600"/>
                </a:lnTo>
                <a:lnTo>
                  <a:pt x="119558" y="20200"/>
                </a:lnTo>
                <a:lnTo>
                  <a:pt x="119558" y="1400"/>
                </a:lnTo>
                <a:close/>
              </a:path>
              <a:path fill="darkenLess" w="120958" h="21600">
                <a:moveTo>
                  <a:pt x="120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58" y="20200"/>
                </a:lnTo>
                <a:close/>
              </a:path>
              <a:path fill="lighten" w="120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ction Button: Custom 2">
            <a:hlinkClick r:id="rId12" action="ppaction://hlinksldjump"/>
          </p:cNvPr>
          <p:cNvSpPr/>
          <p:nvPr/>
        </p:nvSpPr>
        <p:spPr>
          <a:xfrm>
            <a:off x="152280" y="3581280"/>
            <a:ext cx="1752840" cy="609840"/>
          </a:xfrm>
          <a:custGeom>
            <a:avLst/>
            <a:gdLst>
              <a:gd name="textAreaLeft" fmla="*/ 39240 w 1752840"/>
              <a:gd name="textAreaRight" fmla="*/ 1713600 w 1752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62060" h="21600">
                <a:moveTo>
                  <a:pt x="0" y="0"/>
                </a:moveTo>
                <a:lnTo>
                  <a:pt x="62060" y="0"/>
                </a:lnTo>
                <a:lnTo>
                  <a:pt x="62060" y="21600"/>
                </a:lnTo>
                <a:lnTo>
                  <a:pt x="0" y="21600"/>
                </a:lnTo>
                <a:close/>
              </a:path>
              <a:path fill="lightenLess" w="62060" h="21600">
                <a:moveTo>
                  <a:pt x="0" y="0"/>
                </a:moveTo>
                <a:lnTo>
                  <a:pt x="62060" y="0"/>
                </a:lnTo>
                <a:lnTo>
                  <a:pt x="60660" y="1400"/>
                </a:lnTo>
                <a:lnTo>
                  <a:pt x="1400" y="1400"/>
                </a:lnTo>
                <a:close/>
              </a:path>
              <a:path fill="darken" w="62060" h="21600">
                <a:moveTo>
                  <a:pt x="62060" y="0"/>
                </a:moveTo>
                <a:lnTo>
                  <a:pt x="62060" y="21600"/>
                </a:lnTo>
                <a:lnTo>
                  <a:pt x="60660" y="20200"/>
                </a:lnTo>
                <a:lnTo>
                  <a:pt x="60660" y="1400"/>
                </a:lnTo>
                <a:close/>
              </a:path>
              <a:path fill="darkenLess" w="62060" h="21600">
                <a:moveTo>
                  <a:pt x="62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0" y="20200"/>
                </a:lnTo>
                <a:close/>
              </a:path>
              <a:path fill="lighten" w="62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6" name="AutoShape 4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AutoShape 4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Supreme Court case of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Brown v. Board of Education of Topek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rectly contradicted the legal principle established b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 – </a:t>
            </a: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red Scott v. Sanford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B – </a:t>
            </a: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Roe v. Wade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 – </a:t>
            </a: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Plessy v. Ferguson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D – </a:t>
            </a: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Miranda v. Arizona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E – </a:t>
            </a: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chenck v. United States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457200" y="236232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80880" y="3124080"/>
            <a:ext cx="5562720" cy="685800"/>
          </a:xfrm>
          <a:custGeom>
            <a:avLst/>
            <a:gdLst>
              <a:gd name="textAreaLeft" fmla="*/ 44280 w 5562720"/>
              <a:gd name="textAreaRight" fmla="*/ 5518440 w 5562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5123" h="21600">
                <a:moveTo>
                  <a:pt x="0" y="0"/>
                </a:moveTo>
                <a:lnTo>
                  <a:pt x="175123" y="0"/>
                </a:lnTo>
                <a:lnTo>
                  <a:pt x="175123" y="21600"/>
                </a:lnTo>
                <a:lnTo>
                  <a:pt x="0" y="21600"/>
                </a:lnTo>
                <a:close/>
              </a:path>
              <a:path fill="lightenLess" w="175123" h="21600">
                <a:moveTo>
                  <a:pt x="0" y="0"/>
                </a:moveTo>
                <a:lnTo>
                  <a:pt x="175123" y="0"/>
                </a:lnTo>
                <a:lnTo>
                  <a:pt x="173723" y="1400"/>
                </a:lnTo>
                <a:lnTo>
                  <a:pt x="1400" y="1400"/>
                </a:lnTo>
                <a:close/>
              </a:path>
              <a:path fill="darken" w="175123" h="21600">
                <a:moveTo>
                  <a:pt x="175123" y="0"/>
                </a:moveTo>
                <a:lnTo>
                  <a:pt x="175123" y="21600"/>
                </a:lnTo>
                <a:lnTo>
                  <a:pt x="173723" y="20200"/>
                </a:lnTo>
                <a:lnTo>
                  <a:pt x="173723" y="1400"/>
                </a:lnTo>
                <a:close/>
              </a:path>
              <a:path fill="darkenLess" w="175123" h="21600">
                <a:moveTo>
                  <a:pt x="175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23" y="20200"/>
                </a:lnTo>
                <a:close/>
              </a:path>
              <a:path fill="lighten" w="175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533520" y="403848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533520" y="48006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ction Button: Custom 3"/>
          <p:cNvSpPr/>
          <p:nvPr/>
        </p:nvSpPr>
        <p:spPr>
          <a:xfrm>
            <a:off x="4572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9" name="AutoShape 4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2" name="AutoShape 4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19:50:36Z</dcterms:created>
  <dc:creator>Wendy Russell</dc:creator>
  <dc:description/>
  <dc:language>en-US</dc:language>
  <cp:lastModifiedBy>Mark Scacewater</cp:lastModifiedBy>
  <dcterms:modified xsi:type="dcterms:W3CDTF">2012-08-02T19:05:03Z</dcterms:modified>
  <cp:revision>16</cp:revision>
  <dc:subject/>
  <dc:title>Multple Choice Quiz Template</dc:title>
</cp:coreProperties>
</file>